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7F6-C807-479C-A8B6-F1893CA1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4C2-BC24-4715-BECC-0B4142C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C27-B8A7-4C1B-B48B-9B2C58A6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AA6-BB9B-47EA-84CB-2EFA8494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ED7-910A-42E6-A671-4E3D604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4D76-B1E6-469D-BD5A-6F6577E7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4D14-4BEE-454B-9E8C-AB337A3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5E3-7496-4DA4-929D-1196C53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6D5-D468-4D86-A9FF-ED97A11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F862-9B59-45C8-A6D9-DBE4F6C9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EC5A-1044-42F6-AB03-4EB5999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756-8D90-40D3-8767-A61B179B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BD6-2B07-43D4-AF6B-9A5B92E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8C5-B607-4377-BCCC-82EDB89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FF3-A479-47A6-B397-913B11CE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D17-FFA2-47E2-B7CE-F7E89DA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A6A0-0E57-4EB3-8F65-52FB1802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77E-51C5-490C-A2E5-30373157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C87-FD12-49FB-BF4B-14C02AC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BBC-ED53-486C-A8BB-781823A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D44-7398-468D-92C0-5BBED73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1EE-DC16-4F57-85F6-54942C2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CB0-EF32-4779-8266-F4CFF69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098-D851-43A0-A5D0-B160BE23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AB1-7420-4C24-AC29-ADE22703F0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BA8-ACB8-4DD0-A843-315C62B61B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PTÁCI</a:t>
            </a:r>
            <a:br>
              <a:rPr sz="5800"/>
            </a:b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-základní znak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Rozdělení ptá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a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plha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ukač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křídl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ěkkozob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ě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rabav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rubozob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Základní znak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sou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teplokrevní obratlo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zmnožují se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vej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ělo mají pokryto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eří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oro všichni ptáci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létaj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rotáhlé tě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dní končetiny se proměnily v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kří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ětšinu kostí 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dutýc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vyplněných vzdu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|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okryv tě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chrání ptáky před ztrátou tep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na křídlech je nástrojem pohyb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je a) obrysov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) prachov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)Pera na křídlech se nazýv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letk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a na ocasu se nazýv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rejdovac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) Peří prachové chrání ptáky před ztrát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pla, pravidelně se vyměňuje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elichán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ostr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táci mají pevnou lehkou kost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bka je připojena k páteři 1 kloub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rční páteř je tvořena pohyblivě spojenými obratli – umožňuje pohyby hlavy při získávání pot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 hrudní kost se upínají létací sva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dní končetiny se přeměnily v kří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ávic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listi jsou přeměněny v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zobá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ícen se u některých ptáků rozšiřuje ve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vo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ícen vede do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žlaznatého a svalnatého žalud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Dýchac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zduch je přiváděný do plic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nozdrami a průdušni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2 průduš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hlasové ústroj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lí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vzdušné vak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zásobárna vzduchu,nadlehčují tělo, pomáhají udržovat tělesnou teplo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Cévn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rdce má 2 předsíně a 2 ko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ý krevní oběh (plicn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ký krevní oběh (těln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ozmnožován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lození je vnitř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čí pohlavní žlázy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2 varl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ičí pohlavní žlázy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1 vaječní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ývoj vajíčka po oplození – žloutková koule se postupně obaluje bílkem, jemnými papírovými blanami a skořápk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 vajíčkách sedí samice nebo sam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líhlá mláďata jsou většinou holá – rodiče je krmí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mláďata krmi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ěkterá již mají peří a potravu si hledají sami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mláďata nekrmi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393372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Ptáci stálí a stěhovav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táci stál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zůstávají u nás po celý 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táci stěhovav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přilétají k nám na jaře,pak u nás hnízdí a na podzim odlétají do teplých jižních obla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ěkteří ptáci 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hospodářský význ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5:28:59Z</dcterms:created>
  <dc:creator>pc</dc:creator>
  <dc:description/>
  <dc:language>en-US</dc:language>
  <cp:lastModifiedBy>pc</cp:lastModifiedBy>
  <dcterms:modified xsi:type="dcterms:W3CDTF">2012-10-14T15:56:19Z</dcterms:modified>
  <cp:revision>3</cp:revision>
  <dc:subject/>
  <dc:title>PTÁCI -základní znaky</dc:title>
</cp:coreProperties>
</file>