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5AB-B261-4A25-A28E-B834C4FE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11F-EC0A-4C10-9043-C525441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EC2-EFB5-4FF4-88F2-434E2D2B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432-7C34-4A44-96D1-77A8354F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5B2B-E56D-41A8-96EB-18A707A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BF62-DDD9-4965-BCEA-500F60E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488-C629-4F5C-8348-C8DA21FC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4A5-51EB-4374-9E5F-FE47AAAB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705E-A52E-45D8-858A-52DE6C2F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C15-81FB-4BE5-A644-7AA436B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44A0-0055-4F48-948A-0307A68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F1F-7B19-4C8A-88D4-C8218BE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E2D5-EE9B-41BB-AE25-71F13BA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2A6-9DFF-4759-A4D1-8455955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663-8227-4805-BD21-F689EC8F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068-C12F-40B6-84FF-2D65AEDA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315-BDCD-41DF-98DE-7051F278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A0D-D850-4179-92C7-686ABC2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7B8-2C46-412C-AA66-70FC5BE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2AB-6DC3-4040-BED2-8F959F1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B38-7A4C-4E7F-99F4-2F34181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0C0-6AA3-45E2-935A-B710F68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D1-1542-46CA-BF76-B227304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6B4-46A0-4565-BF86-5092760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D3E8-D084-43B1-BB9D-42BD9F537FF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D7C-DB2D-4344-887A-ACC43121FDC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                      </a:t>
            </a:r>
            <a:r>
              <a:rPr b="0" lang="cs-CZ" sz="4400" spc="-1" strike="noStrike">
                <a:solidFill>
                  <a:srgbClr val="f7d47d"/>
                </a:solidFill>
                <a:latin typeface="Arial"/>
              </a:rPr>
              <a:t>Ptáci</a:t>
            </a:r>
            <a:br>
              <a:rPr sz="4400"/>
            </a:br>
            <a:r>
              <a:rPr b="0" lang="cs-CZ" sz="4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skupiny dravci, sovy, šplhavci,</a:t>
            </a:r>
            <a:br>
              <a:rPr sz="3600"/>
            </a:br>
            <a:r>
              <a:rPr b="0" lang="cs-CZ" sz="3600" spc="-1" strike="noStrike">
                <a:solidFill>
                  <a:srgbClr val="f7d47d"/>
                </a:solidFill>
                <a:latin typeface="Arial"/>
              </a:rPr>
              <a:t>        kukačky, dlouhokřídlí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f1311"/>
                </a:solidFill>
                <a:latin typeface="Arial"/>
              </a:rPr>
              <a:t>Přírodopis 8.roč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rav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krmiví ptá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tvrdý zobák s ostrými hranami, je hákovitě zahnut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řídla mají dobře vyvinut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tky jsou dlouh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ostré dráp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výborný zra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užiteční a zákonem chráně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áně les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dosahuje délky 500-560 m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rozpětí křídel je 1100-1150 m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raboše a myš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za letu ho poznáme podle širokých křídel, často plachtí a krouží vysoko na obloz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Jestřáb les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 menší než káně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lavně drobné ptáky, vrány a stra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hnízda si staví na vysokých strome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oštolka obecn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patří mezi menší drav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loví hraboše, hmyz a myš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patří mezi stěhované ptá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Sov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to noční drav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vynikající sluch a zra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étají velmi tiš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měkké, husté a načechrané peř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oví drobné hlodav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 našim nejznámějším sovám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ova pálená, sýček obecný a výr velk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Šplhavc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ývají také označováni jako „lékaři lesů“, protože prohledávají kůru stromů a vybírají z ní hmy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jí upravené prsty ke šplhán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nízdí často v dutinách stromů, které si vydlabávají ostrým zobák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zi šplhavce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žluna zelená, strakapoud velký a datel čern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Kukačk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sou krmiví ptá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obák mají na konci zahnut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zi nejznámější zástupce patří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ukačka obecn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lade vajíčka do hnízd jiných ptákům,kteří se o mládě kukačky staraj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tří mezi stěhovavé pták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1" lang="cs-CZ" sz="4000" spc="-1" strike="noStrike">
                <a:solidFill>
                  <a:srgbClr val="f7d47d"/>
                </a:solidFill>
                <a:latin typeface="Arial"/>
              </a:rPr>
              <a:t>Dlouhokřídlí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Jsou vodní krmiví ptá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Přední prsty mají spojené plovací bláno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Mají dlouhá a úzká kříd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Nejznámějším naším zástupcem je </a:t>
            </a:r>
            <a:r>
              <a:rPr b="1" lang="cs-CZ" sz="2800" spc="-1" strike="noStrike">
                <a:solidFill>
                  <a:srgbClr val="2f1311"/>
                </a:solidFill>
                <a:latin typeface="Arial"/>
              </a:rPr>
              <a:t>racek chechtav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Patří mezi stěhovavé pták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f1311"/>
                </a:solidFill>
                <a:latin typeface="Arial"/>
              </a:rPr>
              <a:t>Je užitečný – hubí červy, ponravy, hmy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4:29:19Z</dcterms:created>
  <dc:creator>pc</dc:creator>
  <dc:description/>
  <dc:language>en-US</dc:language>
  <cp:lastModifiedBy>pc</cp:lastModifiedBy>
  <dcterms:modified xsi:type="dcterms:W3CDTF">2012-10-29T14:47:38Z</dcterms:modified>
  <cp:revision>2</cp:revision>
  <dc:subject/>
  <dc:title>                      Ptáci   skupiny dravci, sovy, šplhavci,         kukačky, dlouhokřídlí</dc:title>
</cp:coreProperties>
</file>