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94A-C544-4121-85AE-8583A969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D7E-250B-4EA6-AB3B-86EA0EF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F14-7FA1-4658-86F0-9D7CA59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062-8FA4-478D-8D33-FD486DA5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878-D251-4421-B559-156800BD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A9A-F32F-487E-A2BD-77ADC957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CF6-77E4-4F59-BA92-5203B627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6B75-390A-457F-9262-4DDEAF4E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279E-ADD2-4CF9-945B-914BDD63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251-877B-42F9-8396-EE2C81A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1241-F2AB-47D2-84AD-D1BB5FF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AF1-D293-4BAA-967D-C169CCEC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CCA-C173-4DCF-AD15-FBB0F0E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C426-643E-438B-BCA9-9512153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91B2-94C4-4F50-AC66-B2AD1A3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3FCB-4C03-4A56-861A-444700DB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404-4401-489A-B517-BF0CB8A3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C58-BB63-4798-BC05-CB8F055F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B9B-37EC-42F1-9C4E-D81C1EA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367-30A8-4B74-88A7-A2346BE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44B-6A0B-4B26-AA58-CF8BD33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DD7-838A-450A-BCB1-7775FCBC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F11-F18A-4C85-93BF-F5C3A09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5B1-6F0E-4EA0-9B26-5D33722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41D0-F8C2-4920-A51A-DFF595F62B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6E3-5F05-4161-B0CA-7A2C96F35B16}" type="slidenum">
              <a:rPr b="0" lang="cs-CZ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4/Albert_Einstein_in_later_years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bert_Einstein_in_later_years.jpg" TargetMode="External"/><Relationship Id="rId2" Type="http://schemas.openxmlformats.org/officeDocument/2006/relationships/hyperlink" Target="http://commons.wikimedia.org/wiki/File:Homo_erectus.JPG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3/Homo_erectus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c/c7/Krapina-Neanderthal-3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5/Cro-magnon_-_diorama_du_Mus&#233;e_de_Pr&#233;histoire_des_gorges_du_Verdon.jp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c/Australia_Aboriginal_Culture_009.jpg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700" spc="-1" strike="noStrike">
                <a:solidFill>
                  <a:srgbClr val="ffffcc"/>
                </a:solidFill>
                <a:latin typeface="Arial"/>
              </a:rPr>
              <a:t>Původ a vývoj člověk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Přírodopis 9.roč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7" descr="File:Albert Einstein in later yea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1931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č.1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Public domain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ommons.wikimedia.org/wiki/File:Albert_Einstein_in_later_years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2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commons.wikimedia.org/wiki/File:Homo_erectus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č.3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Public domain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Krapina-Neanderthal-3.JPG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4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Cro-magnon_-_diorama_du_Mus%C3%A9e_de_Pr%C3%A9histoire_des_gorges_du_Verdon.jpg?uselang=c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obr. č.5 </a:t>
            </a:r>
            <a:r>
              <a:rPr b="0" lang="pl-PL" sz="1600" spc="-1" strike="noStrike">
                <a:solidFill>
                  <a:srgbClr val="eaeaea"/>
                </a:solidFill>
                <a:latin typeface="Verdana"/>
              </a:rPr>
              <a:t>[cit. 2012-09-23]. Dostupné pod licencí </a:t>
            </a: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Creative Commons na WWW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Verdana"/>
              </a:rPr>
              <a:t>http://commons.wikimedia.org/wiki/File:Australia_Aboriginal_Culture_009.jpg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Živočišní předchůdci člověk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li přibližně před 5 miliony l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li v tropických pralesí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živili se dužnatými plod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pohybovali se po 4 končetiná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Co je antropologi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Antropologie je věda o původu a vývoji člověk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Opočlově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žil před 500 000 až 300 000 let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měl vzpřímenou postavu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žil v lesích a ve stepích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ukrýval se v jeskyních a pod skalními převis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používal primitivní nástroje-kameny a větve stromů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eaeaea"/>
                </a:solidFill>
                <a:latin typeface="Verdana"/>
              </a:rPr>
              <a:t>dorozumíval se neartikulovanou řečí-skřeky</a:t>
            </a: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File:Homo erec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1197000"/>
            <a:ext cx="133344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račlověk-člověk neandrtáls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pračlověk je označován jako neandrtálec podle místa nálezu – v Německ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měřil asi 1,5 met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měl mohutné čelisti,počet zubů byl stejný jako u dnešních lid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k lovu a práci používal nástroje z kamene a dřevěné oštěp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Verdana"/>
              </a:rPr>
              <a:t>žil v tlupách,dorozumíval se primitivní řečí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Pračlověk-člověk neandrtáls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vé mrtvé pohřbí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český antropolog Aleš Hrdlička dokázal, že všechno lidstvo prošlo vývojem člověka neandrtálskéh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File:Krapina-Neanderthal-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86064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předvě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azýval se také člověk kromaňonský podle místa nálezu ve Franci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byl vyšší posta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yráběl dokonalé kamenné nástroj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kázal vyrobit nástroje a ozdobné předměty z kostí, parohů a zubů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na stěnách v jeskyních maloval obrazy a rytiny zvíř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předvěk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File:Cro-magnon - diorama du Musée de Préhistoire des gorges du Verd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341360"/>
            <a:ext cx="372744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Arial"/>
              </a:rPr>
              <a:t>Člověk rozumn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vznikl asi před 15 000 le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dochází u něj k rozvoji myšlení, řeči, duševních a tělesných schopnost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staví si stálá obydl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domácňuje si zvířata, vzniká pastevectví a zemědělství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Verdana"/>
              </a:rPr>
              <a:t>začal využívat kov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File:Australia Aboriginal Culture 0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10360" y="3716280"/>
            <a:ext cx="193824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5:44:12Z</dcterms:created>
  <dc:creator>pc</dc:creator>
  <dc:description/>
  <dc:language>en-US</dc:language>
  <cp:lastModifiedBy>user</cp:lastModifiedBy>
  <dcterms:modified xsi:type="dcterms:W3CDTF">2012-10-16T01:16:00Z</dcterms:modified>
  <cp:revision>3</cp:revision>
  <dc:subject/>
  <dc:title>Původ a vývoj člověka</dc:title>
</cp:coreProperties>
</file>